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7C39-5266-4786-B4DA-74E658A71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58E6-8C5B-4A74-9C01-4DE6306A5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BFE2-0DC9-4D94-9058-3CD7567E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108E-BDE4-45E9-B981-FDA47C88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3D32-2596-4E4A-8325-9F7EA00B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F65C-CFE1-498A-A8EC-380DAA8C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0F79-031E-4B47-B539-E8BB8773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B5DB-2402-4161-9A8B-8ABE8718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3C0B-1688-4BA3-9364-0CC30C9A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2298-2E89-409B-831C-3D05968D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2C6F-73C3-434D-89F8-DA4953B0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B08C-B976-41A0-89DE-6F031BB8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CE2D-90DA-4354-B2EF-23EA1856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AFB6-F477-491D-BB34-977AA92F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2950-B002-4211-AA0E-6B893EBFC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04920" y="228600"/>
            <a:ext cx="8534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ile - Uncle Cra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're 1.______ then the 2.______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'm lucky just to 3.______ in your 4._____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ler then the 5.____ ____ of my pillow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's right, completely 6.______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hing can 7._______ to where you 8._____ m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s me know that it's ok , yeah it's ok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he moments when my 9. _____ _____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to 10._____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(refrain) You make me 11._____ like the 12.____, fall out of bed, 13.____ like a 14.____, 15.____ in my head, 16._____ like a 17.______, crazy on a Sunday night, you make me 18.______ like a 19.______, forget how to 20._______, 21.______ like 22.______, 23._____ like a 24.____. just the thought of you can drive me 25._____...Oh, you make me smile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 when you're 26._____ somehow you come alon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st like a flower 27.______ through the sidewalk 28._____ and just like tha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29.______  _______ the rain and just like that 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(refra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't know how I lived without you 'cuz every time that I get around you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see the 30. _____ __ ____ inside your ey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make me smile 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(refra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3124080" cy="21477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1219320" y="457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200400" y="457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2209680" y="7621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4038480" y="7621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2286000" y="990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lip  s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3124080" y="1295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na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1828800" y="1600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4343400" y="1523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6705720" y="2452680"/>
            <a:ext cx="2438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heartcookingclubs.blogspot.co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3581280" y="20574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ood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1295280" y="23623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2971800" y="2971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m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4800600" y="2971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7315200" y="2895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/>
          <p:cNvSpPr/>
          <p:nvPr/>
        </p:nvSpPr>
        <p:spPr>
          <a:xfrm>
            <a:off x="457200" y="32004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1447920" y="32004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iz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3657600" y="32004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5410080" y="32004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7"/>
          <p:cNvSpPr/>
          <p:nvPr/>
        </p:nvSpPr>
        <p:spPr>
          <a:xfrm>
            <a:off x="2819520" y="3505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4572000" y="3505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7315200" y="3505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rea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609480" y="37339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2133720" y="3733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2"/>
          <p:cNvSpPr/>
          <p:nvPr/>
        </p:nvSpPr>
        <p:spPr>
          <a:xfrm>
            <a:off x="3276720" y="3733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u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3"/>
          <p:cNvSpPr/>
          <p:nvPr/>
        </p:nvSpPr>
        <p:spPr>
          <a:xfrm>
            <a:off x="4876920" y="3733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4"/>
          <p:cNvSpPr/>
          <p:nvPr/>
        </p:nvSpPr>
        <p:spPr>
          <a:xfrm>
            <a:off x="1523880" y="40384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2514600" y="4572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"/>
          <p:cNvSpPr/>
          <p:nvPr/>
        </p:nvSpPr>
        <p:spPr>
          <a:xfrm>
            <a:off x="2514600" y="4876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o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7"/>
          <p:cNvSpPr/>
          <p:nvPr/>
        </p:nvSpPr>
        <p:spPr>
          <a:xfrm>
            <a:off x="5943600" y="4876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8"/>
          <p:cNvSpPr/>
          <p:nvPr/>
        </p:nvSpPr>
        <p:spPr>
          <a:xfrm>
            <a:off x="1219320" y="5105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eal    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9"/>
          <p:cNvSpPr/>
          <p:nvPr/>
        </p:nvSpPr>
        <p:spPr>
          <a:xfrm>
            <a:off x="1676520" y="59580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st  of 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4T01:58:09Z</dcterms:created>
  <dc:creator>Steve Carpenter</dc:creator>
  <dc:description/>
  <dc:language>en-US</dc:language>
  <cp:lastModifiedBy>Dan Olsen</cp:lastModifiedBy>
  <dcterms:modified xsi:type="dcterms:W3CDTF">2011-01-17T17:11:21Z</dcterms:modified>
  <cp:revision>29</cp:revision>
  <dc:subject/>
  <dc:title>Slide 1</dc:title>
</cp:coreProperties>
</file>